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485-EE5D-4A67-ABA3-A45D3C44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1EC-8E28-48BF-AEBF-696FFB08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659-7A3E-4B8F-AF80-B8718D13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4A5-D29C-4A23-BB40-0E8205EC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001-15B3-493D-BECF-741E05C7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785-B0BC-4874-9E7E-F245362A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C23-9EEF-444C-8795-B00ED40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60E-97DD-42D4-BFB1-9A6B06EA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BAC-A062-418E-A8F8-82CCF7A4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D51-1932-4D82-9DAB-C39FC4A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9B0-504F-4693-805E-BD56AA5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7BC-478C-4702-88F1-DC6A44D2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59F7-A248-43E0-B9CE-1E0D3E10D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Group 7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AutoShape 11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6" name="Text Box 10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Laura McDow</cp:lastModifiedBy>
  <dcterms:modified xsi:type="dcterms:W3CDTF">2010-07-29T10:13:37Z</dcterms:modified>
  <cp:revision>7</cp:revision>
  <dc:subject/>
  <dc:title>No Slide Title</dc:title>
</cp:coreProperties>
</file>